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27818"/>
        <c:axId val="70168292"/>
      </c:barChart>
      <c:catAx>
        <c:axId val="19927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8292"/>
        <c:crosses val="autoZero"/>
        <c:auto val="1"/>
        <c:lblAlgn val="ctr"/>
        <c:lblOffset val="100"/>
        <c:noMultiLvlLbl val="0"/>
      </c:catAx>
      <c:valAx>
        <c:axId val="70168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27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654-9F10-4E1A-9A48-9C9D0FA9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33C-FC85-4446-AE85-A58B8018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AAB-81E6-4523-B6FB-8B73D17C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03C-F959-4A58-BC1C-3CE445F4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114-BA75-465B-B50B-F72C17B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B0A-E1CE-4414-B215-C55B692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BE0-BFB7-43E3-BD73-57176FEE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0A5-9F47-4FB6-BF62-C667AE80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F2F-7CF6-4CE7-BD28-A8C172C4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A93-61C0-43BD-8D90-A170298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28D-6AD2-44EF-A03A-8F247EA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1E0-448F-4BE5-8A61-3759BF0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DE75-7D23-4B14-809B-430D09782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