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58632"/>
        <c:axId val="20500880"/>
      </c:barChart>
      <c:catAx>
        <c:axId val="77458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00880"/>
        <c:crosses val="autoZero"/>
        <c:auto val="1"/>
        <c:lblAlgn val="ctr"/>
        <c:lblOffset val="100"/>
        <c:noMultiLvlLbl val="0"/>
      </c:catAx>
      <c:valAx>
        <c:axId val="20500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58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525-BAFF-4E20-9791-F142F4ED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6AE-E6EC-4BCB-8777-D4F8E6B4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DB5-79B1-4A19-BBA4-C83A8D20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270-3C1F-4388-9BC7-715A6BCA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E99-93C3-45F4-8821-5859BDC0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009-C620-4D7F-A3D5-9C5E1655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D2D-5BF0-4E02-A792-5922C3EE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CCA-1FA7-4CD9-A381-F1002892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550-A650-4F4A-B3A0-09F9308C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022-EC3E-48EC-84C3-B6D8D4EC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E6E-3E64-46E4-BFC6-BF673FA9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C1C-2B81-47F5-B73A-C0E1B7A6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5E8DA-D454-49E5-BEB2-04C87B4348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