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54707"/>
        <c:axId val="8718582"/>
      </c:barChart>
      <c:catAx>
        <c:axId val="93854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8582"/>
        <c:crosses val="autoZero"/>
        <c:auto val="1"/>
        <c:lblAlgn val="ctr"/>
        <c:lblOffset val="100"/>
        <c:noMultiLvlLbl val="0"/>
      </c:catAx>
      <c:valAx>
        <c:axId val="8718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54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793-6D8E-4B5B-B80D-B3A9055A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408-2985-43B1-BE15-8C75F47A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A3A-EB78-4A91-94DD-5BF2CF41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E89-6220-4CD3-B3FA-2F9BB0FB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DE3-8644-42DE-80B0-46F61952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8E5-D4E6-435A-8D89-25A1260D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D17-4722-4F71-85F7-FF10BB59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70A-60CA-43A6-8FEA-30B2A45D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C7F-9399-4468-AFAD-CF5A988E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012-48C0-4B9F-85BE-B134104F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30B-B98C-4249-8900-39AF4303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75F-2737-422B-9746-B1704CEB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8E3E6-B32C-412F-A7CD-400F96A11A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