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45421"/>
        <c:axId val="76218724"/>
      </c:barChart>
      <c:catAx>
        <c:axId val="82145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8724"/>
        <c:crosses val="autoZero"/>
        <c:auto val="1"/>
        <c:lblAlgn val="ctr"/>
        <c:lblOffset val="100"/>
        <c:noMultiLvlLbl val="0"/>
      </c:catAx>
      <c:valAx>
        <c:axId val="76218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5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CE1-BB8A-49BA-B36B-89F8C902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88B-9886-4ABA-BFD4-6FE348B4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6DF-C498-4997-9FF8-3B08A732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EDD-6CB2-4BC6-9D4F-C6C17874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883-7768-44A9-AABF-F5F0ABE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81D-55C2-47C2-AB60-C12C4A63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974-36A9-4CCA-80ED-C0D5E73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A31-C185-46C1-A07D-DB4A3756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DCA-83EA-4BAF-9EF4-B105A333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1C0-E361-4FC3-BFED-D6F2149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5AD-3283-48CF-ABFE-B87B2399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130-0718-4068-B76C-73DE736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ADFA8-E97E-4F93-B7CB-B67222792C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