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61226"/>
        <c:axId val="32098701"/>
      </c:barChart>
      <c:catAx>
        <c:axId val="46661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98701"/>
        <c:crosses val="autoZero"/>
        <c:auto val="1"/>
        <c:lblAlgn val="ctr"/>
        <c:lblOffset val="100"/>
        <c:noMultiLvlLbl val="0"/>
      </c:catAx>
      <c:valAx>
        <c:axId val="32098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61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2BE-19A3-49CF-962F-9E35C0C6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3E7-D5EE-44F2-8A8C-09A0D33C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4B2-D769-45B4-99FD-22D185A6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6E8-14C7-4CCB-9959-CDBB4BEC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CED-9273-48E3-895E-640F4E8A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324-9026-4288-A957-DD4A5E41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E34-76D7-4E9A-BB94-9DE2B730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9F9-6384-401B-AB14-0AD930AA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B44-48BD-4245-BE55-A0B4188D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DAE-3664-457D-B5C5-AED247F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2F2-ACDE-4375-B653-D784898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A79-7FE2-4AC2-8C7C-87934E33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DEDBF-B743-4488-8152-92AA9B2D7F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