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49135"/>
        <c:axId val="38385979"/>
      </c:barChart>
      <c:catAx>
        <c:axId val="80049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85979"/>
        <c:crosses val="autoZero"/>
        <c:auto val="1"/>
        <c:lblAlgn val="ctr"/>
        <c:lblOffset val="100"/>
        <c:noMultiLvlLbl val="0"/>
      </c:catAx>
      <c:valAx>
        <c:axId val="38385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49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535-4DD0-4FAE-89B9-F28AACB0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AB4-6C09-43EC-86F8-AD9DC490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4F6-2455-48AE-9D00-40CAC901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C4A-4B54-4B4C-B11C-6B617546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CB4-6842-4BC3-85E7-3A05FA25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D40-7ACE-4922-98ED-40247D5B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496-4C88-47F1-B953-6BC4FF30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924-41FC-4C0B-AA91-7361D615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0B9-D361-4033-B6F4-DA4AFB2D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DC1-C2BC-4391-8211-AC98D417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243-4FEA-4078-9894-B8AA15F5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FAA-CB36-4992-978E-6D9997DC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E5F43-8CCB-4395-B74F-D50840815D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