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45891"/>
        <c:axId val="76498945"/>
      </c:barChart>
      <c:catAx>
        <c:axId val="81645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98945"/>
        <c:crosses val="autoZero"/>
        <c:auto val="1"/>
        <c:lblAlgn val="ctr"/>
        <c:lblOffset val="100"/>
        <c:noMultiLvlLbl val="0"/>
      </c:catAx>
      <c:valAx>
        <c:axId val="76498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45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B60-3CD4-4D26-AC10-1B55A9EC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9C5-0C32-4716-B26D-80BEB8F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142-BE7D-4BA6-99CF-08A3F61E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049-0D54-43E2-A95D-86711536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1C5-6CA9-4AFC-B22E-60A216C5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541-298F-47F7-87AE-FD4A74B6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9FB-44F3-4DB6-8F42-90F4D1EA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9C9-4C48-4EBD-A91E-9FD8C1DE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5C1-5276-4FE1-8766-ACBF85A0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4DA-9200-408B-AF93-D0EA042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AA0-3C14-4A68-BAEE-9F44212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253-D95C-4CF8-9578-DBDB3F2C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A3FB7-2218-45E4-94ED-72A2554A5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