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711557"/>
        <c:axId val="50823304"/>
      </c:barChart>
      <c:catAx>
        <c:axId val="527115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823304"/>
        <c:crosses val="autoZero"/>
        <c:auto val="1"/>
        <c:lblAlgn val="ctr"/>
        <c:lblOffset val="100"/>
        <c:noMultiLvlLbl val="0"/>
      </c:catAx>
      <c:valAx>
        <c:axId val="508233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7115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1CDB-FC39-44CE-A0D6-98CF61AC3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44B2-827E-4725-9EFB-C053C753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B5C2-B6E4-45FB-93B7-5F9D008AE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AEC3-8B25-46D3-8FA8-A6393D805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BDC9-BBE4-447C-ADB2-FC4CEE46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D27E-17EF-4D56-B28A-8DAFA205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B9B8-4BDF-4A6E-8844-7C5BCFFD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2E84-4840-467F-A601-C0CFFB43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00F5-0158-4220-846B-6902DC67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89B5-FA1F-4DFD-86F9-686C925B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6248-335D-4256-9C5F-89D33836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FCB6-5211-400D-B71D-E14682CD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FE3A5E-7908-45B0-AFA1-FC4ACAD368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