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68896"/>
        <c:axId val="39133699"/>
      </c:barChart>
      <c:catAx>
        <c:axId val="80168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33699"/>
        <c:crosses val="autoZero"/>
        <c:auto val="1"/>
        <c:lblAlgn val="ctr"/>
        <c:lblOffset val="100"/>
        <c:noMultiLvlLbl val="0"/>
      </c:catAx>
      <c:valAx>
        <c:axId val="39133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68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C8A-6013-4A04-B1CC-9AEF0852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B35-654C-491B-8ED3-78ADC8CA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5D8-8B0B-4FC1-8E3C-7AB84E38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9DA-CCEC-4984-B6F7-2BE33935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CD3-A7DF-4B70-A56A-AACA2F74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C1F-AC06-454F-9564-B1C8BA3A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4B9-9BDA-4781-939F-F974373E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C28-2A6E-4001-A991-C0AD83C8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A48-360B-4738-BAC9-3D38FE55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218-635F-4877-98B0-E1230FD3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045-C335-43DE-A877-B1B1ADD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8F9-A6EE-49D9-9B7F-CC988DF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F5FE9-330D-469C-9430-601546820F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