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209681"/>
        <c:axId val="23055096"/>
      </c:barChart>
      <c:catAx>
        <c:axId val="412096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055096"/>
        <c:crosses val="autoZero"/>
        <c:auto val="1"/>
        <c:lblAlgn val="ctr"/>
        <c:lblOffset val="100"/>
        <c:noMultiLvlLbl val="0"/>
      </c:catAx>
      <c:valAx>
        <c:axId val="230550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2096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8AAE-2645-4E91-9D97-AC83356B5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0AEC-4BD9-44A8-A780-4E3DF371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DB19-2794-434A-8704-7D6EC7203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D773-B814-4295-A726-AE8171994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1B03-9F2A-43E2-B68E-0AE8E10E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2AD1-C0E2-4608-B496-7F5C4457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AFE4-59C4-4ED7-959F-E5873BEE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A6EB-CF44-43B1-9E45-145B8A30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ECD9-EA06-4368-9336-2856FAEA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5894-2353-4DC4-ADBC-496211B2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A4CF-BD98-4101-BA36-B8AAE808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29D7-E89D-4377-AB6C-8587B01A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D6819-87E5-4937-AA7B-541691674B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