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42807"/>
        <c:axId val="63144215"/>
      </c:barChart>
      <c:catAx>
        <c:axId val="39342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4215"/>
        <c:crosses val="autoZero"/>
        <c:auto val="1"/>
        <c:lblAlgn val="ctr"/>
        <c:lblOffset val="100"/>
        <c:noMultiLvlLbl val="0"/>
      </c:catAx>
      <c:valAx>
        <c:axId val="63144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2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AA9-45D0-426F-A17C-1341D79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7CE-4086-4C57-98F6-A7DDAC2A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F9B-9BF4-43B1-AF3F-B296A1B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8C9-BEF3-4EFC-8F90-011DBDF9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C87-3796-4C25-84A4-A09C091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479-F1AA-4359-8816-3EF6FC2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D78-06C6-4FD8-9039-914602A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D8A-5AFB-4E76-B45C-5FD9B883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207-1594-42AE-88A4-058225BF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FA7-E049-4711-B299-960A06B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5EC-175A-4DD0-8B75-914E960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939-DCA2-43AE-BAF6-F160FDC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0C9F7-A059-4C30-9656-D709C7E02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