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65127"/>
        <c:axId val="95946587"/>
      </c:barChart>
      <c:catAx>
        <c:axId val="290651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46587"/>
        <c:crosses val="autoZero"/>
        <c:auto val="1"/>
        <c:lblAlgn val="ctr"/>
        <c:lblOffset val="100"/>
        <c:noMultiLvlLbl val="0"/>
      </c:catAx>
      <c:valAx>
        <c:axId val="959465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651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431-C165-404D-9DC1-36103D28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F91E-CD5D-4BBD-A62C-21444B97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C37D-5BA5-4EC5-8C34-51C91316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55E4-B61A-4909-857D-6DDC55C0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9156-956F-4E9A-B2E7-645CC0DA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CAB9-423C-4F4E-B864-EB91F5BC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A56C-4F9E-43A0-A9A2-FA5C5196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EC74-AA64-44C3-B661-CC0C8F56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90D3-99CD-4CB0-A750-36804459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FE93-53D3-4CFE-8B99-241FEDB4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B710-014A-4541-80C6-64C46025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5960-A35F-4527-93AB-1766DAB5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3C547-31BB-464E-86FB-44A6085D66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