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67995"/>
        <c:axId val="53547307"/>
      </c:barChart>
      <c:catAx>
        <c:axId val="46267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47307"/>
        <c:crosses val="autoZero"/>
        <c:auto val="1"/>
        <c:lblAlgn val="ctr"/>
        <c:lblOffset val="100"/>
        <c:noMultiLvlLbl val="0"/>
      </c:catAx>
      <c:valAx>
        <c:axId val="53547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67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460-A043-4FEF-A6D1-DADC1D47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E65B-6365-4275-925E-F8BAFBC7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7CD-BA6C-4C4F-8B24-ED4F38C3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806-346E-4D46-9474-B17B2F19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F59-88D7-47DD-BDC2-54EA81D6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717-1C98-431D-B137-6195C1EC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DDA-7394-4560-AC1F-30394E1D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119-AA2C-46B9-A3BF-38919AA2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C42-20D4-44A1-9103-4AE66B8A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D62-897A-429A-8D06-A0BDEE55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3F1-D636-45FF-B742-A9C219AC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3107-A2C4-42E0-B679-C6027F26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F0E40-61B5-43C0-AFB4-E10344CAEF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