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86305"/>
        <c:axId val="8956101"/>
      </c:barChart>
      <c:catAx>
        <c:axId val="41486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6101"/>
        <c:crosses val="autoZero"/>
        <c:auto val="1"/>
        <c:lblAlgn val="ctr"/>
        <c:lblOffset val="100"/>
        <c:noMultiLvlLbl val="0"/>
      </c:catAx>
      <c:valAx>
        <c:axId val="8956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86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192-0CDA-454C-A1B2-81605D3C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A3C-21A9-4846-B392-2EB9B83F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659-4394-437D-BBB2-9E2C409F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0CD-7EBB-4F09-A1E0-4E644832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D71-F5C6-4C3A-BCCE-0784EC40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6BC-9EC1-4F3A-B837-90659309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032-93DD-42D4-A0AA-47090593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7B8-2D1E-43DE-A900-4DE36FB5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FC5-562A-449C-941A-2D82001C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C4E-2326-4AEC-BA32-3E57B214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5A3-3FBF-422F-BED3-6CE86C0A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9F0-E9B8-44D5-BB79-53C2BEA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EF007-6A86-4E13-A2F7-D567249563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