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357370"/>
        <c:axId val="74985259"/>
      </c:barChart>
      <c:catAx>
        <c:axId val="935737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985259"/>
        <c:crosses val="autoZero"/>
        <c:auto val="1"/>
        <c:lblAlgn val="ctr"/>
        <c:lblOffset val="100"/>
        <c:noMultiLvlLbl val="0"/>
      </c:catAx>
      <c:valAx>
        <c:axId val="7498525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5737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F5A7B-870B-4C3D-A965-1FCE73AA7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8E680-7ECC-420C-81F8-02A73A710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C33F5-B046-4DEF-9BBF-26227EC97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E520F-4442-461A-B376-F5FE38428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A5441-6382-4AA6-86B7-E0035A354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C17D3-7643-46D0-A661-D799E0F63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36300-9F2B-4D61-A849-3100451CB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FF34D-2DDB-4D09-98C2-A5E034338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B00FB-2D78-4403-A946-D6BC442E5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9B77E-8BF7-47E2-B957-D8DFF8EB7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A77DE-F5C1-43EB-B9F9-221932776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A33BB-A705-4915-A2B5-59901D81F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76246A-919C-4866-9C1A-EF447AAA547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