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814640"/>
        <c:axId val="19188230"/>
      </c:barChart>
      <c:catAx>
        <c:axId val="368146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88230"/>
        <c:crosses val="autoZero"/>
        <c:auto val="1"/>
        <c:lblAlgn val="ctr"/>
        <c:lblOffset val="100"/>
        <c:noMultiLvlLbl val="0"/>
      </c:catAx>
      <c:valAx>
        <c:axId val="19188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146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99DC-D8F2-400C-84F7-74DE475B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74D2-84E3-416F-BFBD-E5DD95A2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FF46-5EAF-47AA-9694-BC7A3B68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B457-D1FB-4EB4-8020-B153DB2F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1187-4D48-4B48-A163-0A053D58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0631-A93C-4ED6-A66F-CCA3A515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B720-F2F1-4ADF-8B70-FEBC7C4D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C836-E173-4B9A-9251-5A34F13F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2AF8-2856-4CA3-BB3A-D9CC7CCE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C13A-1921-41FA-9476-B33F6350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D7F8-C867-4E3F-B908-65BE3D7B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66F3-A1E9-40C8-963E-03ED2018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0AF8D-916B-407E-9A31-4566999B20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