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89295"/>
        <c:axId val="84251874"/>
      </c:barChart>
      <c:catAx>
        <c:axId val="376892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51874"/>
        <c:crosses val="autoZero"/>
        <c:auto val="1"/>
        <c:lblAlgn val="ctr"/>
        <c:lblOffset val="100"/>
        <c:noMultiLvlLbl val="0"/>
      </c:catAx>
      <c:valAx>
        <c:axId val="84251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892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0F7-3BD1-4C3D-8E32-8D735C13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619-3EA4-4F4E-83CB-B9813B54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6FC-20C0-4EBC-BFE9-0DAFF57D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DFC-3496-4536-943B-EC0B834E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638-5700-4CA8-90D2-771FD940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9D9-01C6-4E33-98D2-3607E31D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3A2-9BE3-4C3E-B3FE-331DABD7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2BE-84E1-468D-BF4B-E13B069F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5BF-5CAD-43B1-9F10-4E7EB132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248-0E81-45DA-B4F1-89ECFC8B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BC5-FBF1-41D7-8829-93E9A0F8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9CE-F5F8-4570-B58F-3C237547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18123-67F5-4AF6-B6B4-FDDBB336F3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