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54581"/>
        <c:axId val="56318935"/>
      </c:barChart>
      <c:catAx>
        <c:axId val="56054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8935"/>
        <c:crosses val="autoZero"/>
        <c:auto val="1"/>
        <c:lblAlgn val="ctr"/>
        <c:lblOffset val="100"/>
        <c:noMultiLvlLbl val="0"/>
      </c:catAx>
      <c:valAx>
        <c:axId val="56318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4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1D0-EA44-4A07-8D14-A9384679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7AC-180C-4210-AA3E-52074CC8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6DF-DE4A-48A0-87BB-016B444E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15B-457A-4AAD-92C8-E2EC205D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D39-D56D-4229-89EA-B81E272C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7CB-DB1E-4DE2-A96A-0D415E21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AE3-BDF1-4B8E-B993-C993021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B2A-3D08-4D6D-8419-60396876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758-4166-48A5-A25F-1C8284E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BF3-AE5C-43C8-BC66-985A94E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71D-4BFD-4E72-AFF0-D6BBBE9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D44-1152-41EF-A16B-FFF9F84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724D8-C6A2-48DA-B62F-4632302F1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