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276664"/>
        <c:axId val="45755789"/>
      </c:barChart>
      <c:catAx>
        <c:axId val="292766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755789"/>
        <c:crosses val="autoZero"/>
        <c:auto val="1"/>
        <c:lblAlgn val="ctr"/>
        <c:lblOffset val="100"/>
        <c:noMultiLvlLbl val="0"/>
      </c:catAx>
      <c:valAx>
        <c:axId val="457557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2766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F372-CDED-4211-87E5-0B9CEF1B3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59E5-22F2-4D71-BE53-3CB4CFA0B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2485-4F6F-40DD-B7BB-0AFF13821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E711-A107-4231-A0FF-8666E7AA4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C371-CEF1-4B43-AF06-08891F5BE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ED01-3136-40F4-89B2-AFF958D5B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18CF-8E59-4E7A-A1B5-00C36EBD2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45CC-8234-4BC1-BB28-24511F272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41DA-DB07-4642-971D-0DB27CF41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4665-CD09-43ED-8BB2-91EEE89E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7C5E-D9F0-4DDD-A274-496CC11B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6E24-5959-480E-9729-E6B9ED0A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85456C-17E4-44FA-AFE3-77D7C780BFA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