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24850"/>
        <c:axId val="25492898"/>
      </c:barChart>
      <c:catAx>
        <c:axId val="824248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92898"/>
        <c:crosses val="autoZero"/>
        <c:auto val="1"/>
        <c:lblAlgn val="ctr"/>
        <c:lblOffset val="100"/>
        <c:noMultiLvlLbl val="0"/>
      </c:catAx>
      <c:valAx>
        <c:axId val="254928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248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5CE2-7693-4F0B-8B48-7699C74C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62B9-5257-41A8-8E5B-3E313DE1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FDF7-CFE3-44B5-AD17-0B5FB4A5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A7D-E760-48F1-8159-073545CC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221-475B-47D6-B7BD-2B670DB3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6D6-03F7-4653-B145-F3DAEAD7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7385-0C84-4CAA-BC42-BAA5938C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0142-D65A-48AE-8432-12AB4C57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523F-7C04-48BA-B013-C9B28213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D5E5-B7B1-4C5D-AA78-E38946B3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8C63-44E6-4A18-8775-9D1208BE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CDA9-CA73-48A8-88EA-E52CE746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35F1B-9F3C-441E-9B98-590C87E766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